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C1E-CB64-4ACB-B300-E2C7C7DE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42F-2F59-4693-BF5A-678B6E5B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E9B-FF98-4E10-8468-B61A526E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904-C622-41BA-B3CB-26B3C1CA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78E2-3A5A-499D-BC7A-38AA4A9D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1B7E-AC30-4B8E-BDB8-53DCD763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CD5A-0D8F-4EE0-B448-42DB2D5D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4682-7870-4669-8B3E-12BCB47C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E150-34D9-4C78-9163-00CEFE22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4324-20C8-467B-A6A6-4F50BDF0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F12-B133-4F2B-A83D-0F742151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2B6-DD24-4C5D-8DC9-0DB9B609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6B5B-EB07-4F6E-9EAE-50C13949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1435-7FC1-4503-B3DC-98D31415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4D67-2216-4131-889D-FF22952A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E443-8561-490C-8DDF-3C667249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728E-E3B6-4D34-901E-3CAE5CEF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867-DEC2-4962-A8B0-405394E0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A66-B9BC-4C7E-A9E1-53102A80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FC1-FA7A-48A6-8D3C-47377AE1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ADC-CF4B-4E78-B7D0-CFB25309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D01-1C80-4F42-A83B-1126C58F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401-3105-4AA7-8AAA-55B38D4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6C1-74CD-41A9-80C2-DC815716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24F7-CCE7-4928-A892-AB46104156F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6358-FC9C-460C-8B03-2A05D18EF0E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chnology &amp; Weap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a (uno, one, etc.) partn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 SEPARATE PAP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view the excerpts and the descriptions and create a list that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tches the excerpt to the descrip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plain why you made the matc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4:55:31Z</dcterms:created>
  <dc:creator>School District U46</dc:creator>
  <dc:description/>
  <dc:language>en-US</dc:language>
  <cp:lastModifiedBy>School District U46</cp:lastModifiedBy>
  <dcterms:modified xsi:type="dcterms:W3CDTF">2008-11-06T15:00:06Z</dcterms:modified>
  <cp:revision>1</cp:revision>
  <dc:subject/>
  <dc:title>Technology &amp; Weapons</dc:title>
</cp:coreProperties>
</file>